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4A52-1358-4C9B-938E-6DFE83D1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F356-C091-40B7-85B2-EF3BD617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077E-D8E8-41A1-A94B-0F21D9C8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5660-73B0-4988-AB87-469992FE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B1D1-139F-4E32-A69B-B0392950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81F2-BA40-4B11-B4B6-62A4A83E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241-2FC4-492C-909C-123FAC08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636-D17C-4601-8077-16E7B72C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675-A64B-402C-BC19-AC9AC94B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BC95-C459-4748-A326-94FF8A42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BF66-B924-42E3-AFD9-973C5C9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D876-ACAD-411A-ACF4-96839289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DC55-3EEB-4C56-804C-288D3C3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049D-22EF-41CF-A490-4C19D49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8548-BC90-4146-A3B4-E005D954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2CA4-B410-4D5E-9763-08B6D8D3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55C-4F0E-48EF-BACC-4397F2D5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DE2A-9893-4028-A90D-4169C72F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D885-4F31-4A6A-9D2C-1BFDE27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84F6-50D6-4C75-8656-2DF5E8CA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F1BA-0DCB-44B4-92EB-3E7D7E6D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2F2C-C79D-4592-AC02-6BF67A9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1BDB-CAA2-4FA4-A31D-2DBFB86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A8FF-C85D-44AE-82BD-0893585C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922-E688-47DD-8C81-8A82A0A8CF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199-444E-4B49-9E6A-128DDA9534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cc"/>
                </a:solidFill>
                <a:latin typeface="Tahoma"/>
              </a:rPr>
              <a:t>Cinquain Poems</a:t>
            </a:r>
            <a:endParaRPr b="0" lang="en-US" sz="1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ffcc"/>
                </a:solidFill>
                <a:latin typeface="Tahoma"/>
              </a:rPr>
              <a:t>A Cinquain is a five line poem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ord – subject or no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words – adjectives that describe 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ords – verbs related to line 1, ending in “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words – feelings or complete sentence that relates to 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ord – synonym or word that sums up 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6680" y="1329120"/>
            <a:ext cx="88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inosau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Lived once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iscovering, aging, dy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Only dust and drea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Remai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26320" y="1558080"/>
            <a:ext cx="8096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paghett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essy, spic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lurping, sliding, fall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Between plate and mou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eliciou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5:42:43Z</dcterms:created>
  <dc:creator>DSPEARS</dc:creator>
  <dc:description/>
  <dc:language>en-US</dc:language>
  <cp:lastModifiedBy>Kimberly Leiske</cp:lastModifiedBy>
  <dcterms:modified xsi:type="dcterms:W3CDTF">2011-02-11T08:37:45Z</dcterms:modified>
  <cp:revision>5</cp:revision>
  <dc:subject/>
  <dc:title>Cinquain Poems</dc:title>
</cp:coreProperties>
</file>